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6DA-36EA-4775-BCD1-EB2E68E2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CAA-3A43-40F8-BC60-E3B2C182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385-C168-4587-9F75-9ED8C6AF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DD0-2894-47F5-98F3-38AEF3CE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E68-3C27-46CC-A95C-185FBA12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59F-D249-4E12-9794-D0746C85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356-C549-40FF-A4F7-ADBD318D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9C5-069B-4CE3-AE55-CB2B7EBA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71B-20C2-4A68-B7CF-7DCCEEF5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520-19FA-4B64-B0FE-29F7909B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4D3-2632-41D7-91D6-D1939A8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3F1-386E-4BD4-90EC-D4E87B62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21AE-D004-4E6F-9E68-5CF53B376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5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62320" y="685800"/>
            <a:ext cx="4419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191120" cy="17906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190760" cy="1790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33320" y="-28440"/>
            <a:ext cx="7677360" cy="67341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00200" y="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03848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1171440"/>
            <a:ext cx="5581800" cy="30956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0" y="5724360"/>
            <a:ext cx="8208000" cy="1133640"/>
            <a:chOff x="0" y="5724360"/>
            <a:chExt cx="8208000" cy="1133640"/>
          </a:xfrm>
        </p:grpSpPr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0" y="5724360"/>
              <a:ext cx="478152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425920" y="5788080"/>
              <a:ext cx="278208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CAD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of first sub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s as input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219320" y="4238640"/>
            <a:ext cx="7997400" cy="1552320"/>
            <a:chOff x="1219320" y="4238640"/>
            <a:chExt cx="7997400" cy="1552320"/>
          </a:xfrm>
        </p:grpSpPr>
        <p:sp>
          <p:nvSpPr>
            <p:cNvPr id="479" name=""/>
            <p:cNvSpPr/>
            <p:nvPr/>
          </p:nvSpPr>
          <p:spPr>
            <a:xfrm>
              <a:off x="5230440" y="4373280"/>
              <a:ext cx="39862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: Currents are the s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of interconnection is the 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" descr=""/>
            <p:cNvPicPr/>
            <p:nvPr/>
          </p:nvPicPr>
          <p:blipFill>
            <a:blip r:embed="rId4"/>
            <a:stretch/>
          </p:blipFill>
          <p:spPr>
            <a:xfrm>
              <a:off x="1219320" y="4238640"/>
              <a:ext cx="3885840" cy="155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77760" y="3521160"/>
          <a:ext cx="490212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3521160"/>
                    <a:ext cx="49021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272200" y="3521160"/>
                <a:ext cx="2514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66680" y="4282920"/>
                <a:ext cx="31496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67080" y="443556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326280" y="496872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43556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57240" y="396720"/>
            <a:ext cx="5581440" cy="30956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59840" y="136440"/>
            <a:ext cx="59673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Interconnection: Description Using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38120" y="1233360"/>
            <a:ext cx="7715160" cy="1716120"/>
            <a:chOff x="438120" y="1233360"/>
            <a:chExt cx="7715160" cy="1716120"/>
          </a:xfrm>
        </p:grpSpPr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6021360" y="1311120"/>
                  <a:ext cx="21319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nterconnect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scription</m:t>
                          </m:r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438120" y="1233360"/>
              <a:ext cx="838080" cy="1629000"/>
            </a:xfrm>
            <a:custGeom>
              <a:avLst/>
              <a:gdLst/>
              <a:ahLst/>
              <a:rect l="l" t="t" r="r" b="b"/>
              <a:pathLst>
                <a:path w="528" h="1026">
                  <a:moveTo>
                    <a:pt x="121" y="62"/>
                  </a:moveTo>
                  <a:cubicBezTo>
                    <a:pt x="88" y="84"/>
                    <a:pt x="67" y="105"/>
                    <a:pt x="45" y="138"/>
                  </a:cubicBezTo>
                  <a:cubicBezTo>
                    <a:pt x="35" y="169"/>
                    <a:pt x="27" y="201"/>
                    <a:pt x="17" y="232"/>
                  </a:cubicBezTo>
                  <a:cubicBezTo>
                    <a:pt x="0" y="344"/>
                    <a:pt x="4" y="285"/>
                    <a:pt x="17" y="450"/>
                  </a:cubicBezTo>
                  <a:cubicBezTo>
                    <a:pt x="34" y="664"/>
                    <a:pt x="76" y="820"/>
                    <a:pt x="196" y="997"/>
                  </a:cubicBezTo>
                  <a:cubicBezTo>
                    <a:pt x="202" y="1005"/>
                    <a:pt x="215" y="1003"/>
                    <a:pt x="224" y="1007"/>
                  </a:cubicBezTo>
                  <a:cubicBezTo>
                    <a:pt x="234" y="1012"/>
                    <a:pt x="243" y="1020"/>
                    <a:pt x="253" y="1026"/>
                  </a:cubicBezTo>
                  <a:cubicBezTo>
                    <a:pt x="343" y="1012"/>
                    <a:pt x="377" y="994"/>
                    <a:pt x="442" y="931"/>
                  </a:cubicBezTo>
                  <a:cubicBezTo>
                    <a:pt x="475" y="849"/>
                    <a:pt x="496" y="771"/>
                    <a:pt x="517" y="686"/>
                  </a:cubicBezTo>
                  <a:cubicBezTo>
                    <a:pt x="520" y="654"/>
                    <a:pt x="527" y="623"/>
                    <a:pt x="527" y="591"/>
                  </a:cubicBezTo>
                  <a:cubicBezTo>
                    <a:pt x="527" y="427"/>
                    <a:pt x="528" y="333"/>
                    <a:pt x="498" y="195"/>
                  </a:cubicBezTo>
                  <a:cubicBezTo>
                    <a:pt x="492" y="169"/>
                    <a:pt x="493" y="141"/>
                    <a:pt x="479" y="119"/>
                  </a:cubicBezTo>
                  <a:cubicBezTo>
                    <a:pt x="467" y="100"/>
                    <a:pt x="461" y="74"/>
                    <a:pt x="442" y="62"/>
                  </a:cubicBezTo>
                  <a:cubicBezTo>
                    <a:pt x="402" y="37"/>
                    <a:pt x="362" y="30"/>
                    <a:pt x="319" y="15"/>
                  </a:cubicBezTo>
                  <a:cubicBezTo>
                    <a:pt x="206" y="22"/>
                    <a:pt x="183" y="0"/>
                    <a:pt x="121" y="6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0560" y="1244520"/>
              <a:ext cx="774720" cy="1528920"/>
            </a:xfrm>
            <a:custGeom>
              <a:avLst/>
              <a:gdLst/>
              <a:ahLst/>
              <a:rect l="l" t="t" r="r" b="b"/>
              <a:pathLst>
                <a:path w="488" h="963">
                  <a:moveTo>
                    <a:pt x="416" y="236"/>
                  </a:moveTo>
                  <a:cubicBezTo>
                    <a:pt x="435" y="163"/>
                    <a:pt x="460" y="26"/>
                    <a:pt x="379" y="0"/>
                  </a:cubicBezTo>
                  <a:cubicBezTo>
                    <a:pt x="340" y="7"/>
                    <a:pt x="303" y="17"/>
                    <a:pt x="265" y="28"/>
                  </a:cubicBezTo>
                  <a:cubicBezTo>
                    <a:pt x="246" y="34"/>
                    <a:pt x="209" y="47"/>
                    <a:pt x="209" y="47"/>
                  </a:cubicBezTo>
                  <a:cubicBezTo>
                    <a:pt x="157" y="81"/>
                    <a:pt x="136" y="136"/>
                    <a:pt x="86" y="170"/>
                  </a:cubicBezTo>
                  <a:cubicBezTo>
                    <a:pt x="83" y="179"/>
                    <a:pt x="82" y="189"/>
                    <a:pt x="77" y="198"/>
                  </a:cubicBezTo>
                  <a:cubicBezTo>
                    <a:pt x="66" y="218"/>
                    <a:pt x="47" y="233"/>
                    <a:pt x="39" y="255"/>
                  </a:cubicBezTo>
                  <a:cubicBezTo>
                    <a:pt x="28" y="286"/>
                    <a:pt x="18" y="317"/>
                    <a:pt x="10" y="349"/>
                  </a:cubicBezTo>
                  <a:cubicBezTo>
                    <a:pt x="16" y="495"/>
                    <a:pt x="0" y="656"/>
                    <a:pt x="86" y="783"/>
                  </a:cubicBezTo>
                  <a:cubicBezTo>
                    <a:pt x="98" y="822"/>
                    <a:pt x="109" y="837"/>
                    <a:pt x="143" y="859"/>
                  </a:cubicBezTo>
                  <a:cubicBezTo>
                    <a:pt x="162" y="888"/>
                    <a:pt x="226" y="934"/>
                    <a:pt x="256" y="944"/>
                  </a:cubicBezTo>
                  <a:cubicBezTo>
                    <a:pt x="275" y="950"/>
                    <a:pt x="313" y="963"/>
                    <a:pt x="313" y="963"/>
                  </a:cubicBezTo>
                  <a:cubicBezTo>
                    <a:pt x="346" y="941"/>
                    <a:pt x="369" y="935"/>
                    <a:pt x="398" y="906"/>
                  </a:cubicBezTo>
                  <a:cubicBezTo>
                    <a:pt x="426" y="849"/>
                    <a:pt x="437" y="822"/>
                    <a:pt x="454" y="765"/>
                  </a:cubicBezTo>
                  <a:cubicBezTo>
                    <a:pt x="460" y="746"/>
                    <a:pt x="473" y="708"/>
                    <a:pt x="473" y="708"/>
                  </a:cubicBezTo>
                  <a:cubicBezTo>
                    <a:pt x="486" y="501"/>
                    <a:pt x="488" y="553"/>
                    <a:pt x="473" y="311"/>
                  </a:cubicBezTo>
                  <a:cubicBezTo>
                    <a:pt x="468" y="230"/>
                    <a:pt x="481" y="248"/>
                    <a:pt x="416" y="23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65760" y="8892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76320" y="533520"/>
            <a:ext cx="4647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12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14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0880" y="609480"/>
            <a:ext cx="8208000" cy="1133640"/>
            <a:chOff x="380880" y="609480"/>
            <a:chExt cx="8208000" cy="1133640"/>
          </a:xfrm>
        </p:grpSpPr>
        <p:pic>
          <p:nvPicPr>
            <p:cNvPr id="524" name="" descr=""/>
            <p:cNvPicPr/>
            <p:nvPr/>
          </p:nvPicPr>
          <p:blipFill>
            <a:blip r:embed="rId3"/>
            <a:stretch/>
          </p:blipFill>
          <p:spPr>
            <a:xfrm>
              <a:off x="380880" y="609480"/>
              <a:ext cx="478152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806800" y="673200"/>
              <a:ext cx="278208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CAD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of first sub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s as input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42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43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4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46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8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57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9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63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65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6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7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68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9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85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88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601" name="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3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-76320" y="304920"/>
            <a:ext cx="6096240" cy="223812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0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3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25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26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8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9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0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32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46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2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0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71" name="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5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86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87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8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9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1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96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97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01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2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-12960" y="592200"/>
            <a:ext cx="583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meters of the proposed 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76320" y="2133720"/>
                <a:ext cx="163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752480" y="205740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8" name=""/>
          <p:cNvGrpSpPr/>
          <p:nvPr/>
        </p:nvGrpSpPr>
        <p:grpSpPr>
          <a:xfrm>
            <a:off x="3276720" y="2133720"/>
            <a:ext cx="5790960" cy="4410000"/>
            <a:chOff x="3276720" y="2133720"/>
            <a:chExt cx="5790960" cy="441000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3276720" y="2133720"/>
              <a:ext cx="5790960" cy="44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4618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33" name="" descr=""/>
            <p:cNvPicPr/>
            <p:nvPr/>
          </p:nvPicPr>
          <p:blipFill>
            <a:blip r:embed="rId2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2743200" cy="1173240"/>
          </a:xfrm>
          <a:prstGeom prst="rect">
            <a:avLst/>
          </a:prstGeom>
          <a:ln w="0">
            <a:noFill/>
          </a:ln>
        </p:spPr>
      </p:pic>
      <p:grpSp>
        <p:nvGrpSpPr>
          <p:cNvPr id="736" name=""/>
          <p:cNvGrpSpPr/>
          <p:nvPr/>
        </p:nvGrpSpPr>
        <p:grpSpPr>
          <a:xfrm>
            <a:off x="-41760" y="2895480"/>
            <a:ext cx="3286440" cy="1606320"/>
            <a:chOff x="-41760" y="2895480"/>
            <a:chExt cx="3286440" cy="1606320"/>
          </a:xfrm>
        </p:grpSpPr>
        <p:pic>
          <p:nvPicPr>
            <p:cNvPr id="737" name="" descr=""/>
            <p:cNvPicPr/>
            <p:nvPr/>
          </p:nvPicPr>
          <p:blipFill>
            <a:blip r:embed="rId4"/>
            <a:stretch/>
          </p:blipFill>
          <p:spPr>
            <a:xfrm>
              <a:off x="15840" y="3368520"/>
              <a:ext cx="322884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-41760" y="2895480"/>
              <a:ext cx="1793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 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419720" cy="1733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Jorge Aravena</cp:lastModifiedBy>
  <dcterms:modified xsi:type="dcterms:W3CDTF">2004-10-02T09:41:04Z</dcterms:modified>
  <cp:revision>14</cp:revision>
  <dc:subject/>
  <dc:title>No Slide Title</dc:title>
</cp:coreProperties>
</file>